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0A3-7E07-4BA4-B10E-4B68A161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F65-79E5-425E-9CB8-821BE4E6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879-D5F0-415C-AFCF-B8CA07AC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7D8-C5F1-4E8D-BA63-048BF4B5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0B2B-FD69-410A-A205-28198DBE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8A8-BD01-4052-9F60-EC14062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A16A-2322-410C-B849-21819C6F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DA0-9657-4D54-8597-40A77D7B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FCF6-7D67-4E14-B020-C671F03D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71B-57AA-4CB7-9B2F-D916A8F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19B0-2297-432F-819A-D09A99B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45A-59B6-4AC8-BC4B-2E6A678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56A-6776-48ED-BD96-3F62E7A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B313-4A13-40F4-B40A-7E710EE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5A09-B6FB-4455-A5A0-359E5D4B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873-DA67-4A9F-97C0-B506374B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A27-E60D-4DCD-8A9A-6F49049D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83C-FD75-47C4-951C-376F8B8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0C9-1993-4B78-98E2-5DAAB5F8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2F0-1655-4FFA-B5A4-EAC1AD9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AD2-6425-4A21-8755-B80600D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7C8-214A-4C45-BE3F-AB5509F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3B5-376D-4993-917C-482088C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83E-5B35-4F5A-AFC1-0116A03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888-A3AE-4199-AE7C-981C17CE52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1B4-45FC-47DC-8390-8047710D65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at is 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ograms of Study?</a:t>
            </a:r>
            <a:br>
              <a:rPr sz="44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issouri Family and Consumer Sciences</a:t>
            </a:r>
            <a:br>
              <a:rPr sz="3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3048120"/>
            <a:ext cx="5715000" cy="327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914560" y="2514600"/>
            <a:ext cx="33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Teacher Leader Cadre I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10-Step Process To Implement Programs of Stu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ommitment and Cluster Cho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mplementation Te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oundational Professional Develop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lignment of Course Competencies with Knowledge and Skil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ap Identification and Reme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ocal Validation and Credentia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Vertical Alignment and Transition Lin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eate Transition Opportuniti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reate the Personal Plan of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Environment of Continuous Improv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086600" y="160020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s of Study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tain BUY-IN with Implementation Team/Need &amp; Statist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fessional Development with ALL LEVELS should Increase: 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IGOR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EVANCE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ough Horizontal (Internal) Alignment, Match Academic Alignment Table with Career Cluster Knowledge &amp; Skills Standards for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Gap Identificatio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Remed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e Results with Advisory Council/Link Programs between Educational Levels &amp; Compa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ough Vertical (External) Alignment, Articulate Courses to make sure performance elements are at a higher DOK level: 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IGOR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EVANCE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*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st students with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Personal Plan of Stud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nd Collect Data to Maintain Ongoing and Reflective Dialog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0120" y="5335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23:33Z</dcterms:created>
  <dc:creator>Administrator</dc:creator>
  <dc:description/>
  <dc:language>en-US</dc:language>
  <cp:lastModifiedBy>Administrator</cp:lastModifiedBy>
  <dcterms:modified xsi:type="dcterms:W3CDTF">2008-06-05T15:56:17Z</dcterms:modified>
  <cp:revision>11</cp:revision>
  <dc:subject/>
  <dc:title>What is a Program of Studies? Missouri Family and Consumer Sciences Teacher Leader Cadre II </dc:title>
</cp:coreProperties>
</file>